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2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.jpeg" ContentType="image/jpe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0E09-5DBD-44B2-BB9E-289006A7A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3F7A-0D4D-41D2-A6D6-2E1837EA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8380B9-D922-404D-AE83-8921C998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44A2D-B472-4FDE-875B-F57A42B5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4571F-C5C6-4E19-8B5D-70D65E0B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6B3E4-0D00-4DB6-A37C-B7231616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AB9BF-ECFA-419F-8243-3AE22E42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18C72-9420-4565-A06C-313E6A6A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BE698-5D97-4D3C-9165-FEFF4445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27C91-9965-4196-A33F-B967E6B25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9F73C-DB86-46CD-80F9-767E677BD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265B3B-45C4-4721-A71D-EE70C9263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657A-2686-44F9-A545-FF10CAFC8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FE9521-5E01-42D2-960D-581B9FD4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B7BAF9-F19E-4AE9-AE36-B21234BD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FF88A4-59B9-4853-BB4E-477EDEB0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5E5092-8E57-4506-B79E-68737BCC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C9831D-6CC6-493D-8A72-2A5DCDFF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D3A31E-48F0-424E-9C86-F020D88A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01C624-F18F-44EF-A682-374A9495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0F7EC5-EFD5-496A-84D0-5B70659C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AE90E6-A843-4E00-B139-EB075BF3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EDE260-6DF0-458B-BB62-C7EFBE813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D683-3007-459A-8149-208740AEC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A2D171-31D0-468B-BCD5-5BB8DA500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AAF99-BDC5-4E98-8D22-47029A642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651D7-2B1B-4309-B9D3-A74BFF95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ACA42-64C1-4E0C-BEDC-DAC67F82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11C9A-3B5F-49FC-9DCA-DF1FC5ED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82694-672E-4917-B557-215BCDB1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D9BBB-4949-4EB8-AB94-FBE546F7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BC8EA-0DEB-44EE-9C60-2CA7CD34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06871-09B1-4553-9EED-29927AA8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6AE69-DD03-4640-B4A0-91F9D740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BD8F-8DEE-4606-9CE7-B827D29B4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85A0E-9C89-43CB-849A-02B24EE2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193C9-00E4-4213-868E-A44959F00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2F6F0-3DA2-417B-8DFB-BDFF6178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DF42EA-3C2C-401C-B1F7-8F8A949B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350C1D-C0DC-4A7F-BCAB-47A15DD6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FAB00A-78AE-4608-A396-20FD27DD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759E77-8BA3-436D-863C-02B8E42F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EBBA85-71E1-4A46-AC82-261E7EBA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5C6232-C2B3-4847-B922-162AF5BF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A33235-E2A2-4F97-855C-7C79D5AD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40E6-37CE-4E7B-96ED-3DBEF5AF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19F358-B93F-4E96-9020-BF73B818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FFB256-1B43-40A1-A8B9-EB1E81A0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09F7FA-6A8D-4638-9D60-30E33AF1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8A4884-ABBD-4E85-AF44-E851C8D9E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A91A5F-336A-4643-AFE8-6ABBA9273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874D0B-DEE9-438F-A20B-9348A72CA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189B21-D5B7-4E16-8D00-46704274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E531FD-8417-4537-9213-5DF39B5E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B5F4D3-4C6A-4CCE-954D-2DC0B94E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94FD0E-17FE-470F-8A3D-5E1D3380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D6D85-2875-4177-A90B-1B160DCB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735D5E-DF6F-4321-9E5E-C0DE273E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93CD6E-784B-4B15-A97A-5932CC92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13E2BD-FE53-42AA-B08E-73B1E092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A7F551-462A-4670-911D-E3DA1E24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D63389-6CBB-4F29-B83C-8C58987D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A513A3-3ACB-402C-94B7-87E5ECE0C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FE2C53-FDDB-489C-9C1C-E09CA2D39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C5C242-5064-483E-8F73-EDB8D9D93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9BB04E-BBB9-4481-9FA9-51B3B744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90CAD1-6770-4EC9-94C2-D3928B5E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01CA-E5BF-4F64-88E2-B30705FE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60F2D7-E23E-4F72-8CEC-DC4D3416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C32297-D554-4F63-B62A-803A2C09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7BA746-A053-400A-9C68-CC028BE4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83A205-7778-4DAF-A149-B2FEF36B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9F9B35-1891-4985-9801-A39EDC3F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7C0A14-E970-4A07-B8B7-5ED07D6E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BE773C-D5FA-44CE-940B-4631D0D0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DC259C-4C0E-4275-B8A1-A51F08C62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04E669-6391-4B4B-8BB6-62B1A7F8E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2698-80A3-4CB9-B0AB-40E90E7A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FC0C-57E1-40F4-937E-64C850CB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07A4-4D4A-4C22-8547-ABE4BB1C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B868-7AC6-4701-807B-F6B766A5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E98A-88CA-45C4-BE46-CFF0AE23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2703-0B7A-4B0D-BB09-EDF1A36F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FCA6-537E-4CE9-8394-A83118C8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A2A5-7159-49E7-A473-53813EA22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2555-2331-410C-BCFC-C119D5CDF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702D0B-49D9-4E9B-9F07-E68B5A6F8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7AFE9E-02B7-4558-A1E0-6DD6F35E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0CF4B3-C3A2-4485-A667-EDAEA15E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DE173F-FCDE-434C-9878-3E5F51FC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1DA570-9F8C-4D70-BE4F-05C97136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0D93-4603-443B-A3B6-F031AA19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D69358-5E8A-4269-8702-FB468670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2008FD-4F04-4A46-AD96-E73A698C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DCFCA1-156E-4CC1-9291-E945151E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E88682-9821-48FE-B96F-7E883081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66958B-18BA-45BF-857C-3B8F1060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7E8DB2-81D0-4111-853B-AC0CBDF08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ED5CB9-3749-4AA0-89A2-4018AA18E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27FE6-F986-4C43-895D-39AA6CAF7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C3EF7-F8E6-4E98-83A7-87F90FF4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3C2E8-30A2-4273-84EE-E68ACEE7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F871-AC19-47A7-A392-AF2F1539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5A13E-D65D-4C66-8B37-DE135D09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3597C-1B5F-480D-9D97-598F698D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EFD65-7462-4ABB-9457-537594DC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74C15-1519-4BA1-8FDD-C1FEA7C1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1DAED-C3BB-4663-AF4B-C01D13DE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4F3A5-45B0-4DF4-96ED-9B4164B5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B2580-0FA6-4B09-A18A-5180AFBD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730AD-ED60-4C07-8744-4C5E81CB9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5C205-4186-40A7-B76E-B83655C27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9A724-668E-457F-92C2-C5F366B22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A472-99DE-4728-95D0-800B315F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C9382-7E3B-4F11-A076-3B1898FB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47D78-F9AE-4CA3-B873-E78A1009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DA9AA-7E0A-4B42-B47A-A799EFB8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28681-A8C1-45E7-9414-44EDECDB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4DFF5-1F01-4D31-ABB5-CAEC7369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AFC3D-CEF4-49E1-AC0B-7A57E5E7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41E6D-3DF7-4B6F-88F3-65C01787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CD5F5-F9C5-4100-835E-4BE13BEA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5CB37-1045-4FB8-A873-B110A00F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BEABC-57DA-44D2-A524-173EFAA2F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26AF-CB50-4AE4-9BAA-4BE373CF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02FC2-D4BA-4BC2-8878-8BAB4D22A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D038A-5099-4027-A4B4-D1E56FCC7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9E087-EDA8-4865-A094-2E50C6D2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779D3-2EEA-4A88-99C1-3D44975E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C3F05-9AD2-41FC-95C0-16112C0C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0901E-CBD9-4B36-A773-F02391B7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9F7C6-2253-4217-B737-BB3BE536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D26BA-9364-4A52-8357-B8D6587E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D33DC-D001-4943-AE54-C13999F6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D69D2-D86C-498D-90EC-8A706F69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274B-3BE2-4AA7-9272-1573BD31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9F756-4530-4C2E-8FBF-8C176EDE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C6A2C-3F73-4941-BCDC-B3044649E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20710-E19B-4778-980F-D552F2D29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25AF0-AF1B-43D7-BCC5-9AE2C353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DD132-36FA-4E9B-8871-5B1BC0A7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866DC-ED18-4B9B-A0E4-F56FD0BB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DCF8E-D0C5-4951-894A-4567B5B1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5E8A6-8111-46E2-9F00-C9473B0E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8FCCE-C13F-407C-8621-F27DC21B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8F83B-91BA-4FE1-95F0-DD88C5C1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9F67-FBF0-48A4-8D56-0E68CC94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53DB6-9291-4F2D-A439-2BCF7070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E8013-9698-4EED-8B2F-98F1B3E8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2EE5A-0CF3-48A2-B4C0-B341E97A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3C0B8-D84C-4A00-9622-BF10D5517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D7D64-681A-47C7-A0B4-9CED60468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94062-BB7C-4167-9983-04936E630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117B8-2F72-40A0-8160-E079D2D6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9508D-89C7-4D9D-953B-4674642D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DB51D-B8AD-4094-8359-8E4F62C3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35BDD-F563-4BFE-A7E0-4A1217DA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5EFF-FF1E-4736-BD12-FD6A1AEA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58413-A061-4E2C-A847-B14506E9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07D4E-3EA9-40EA-AD64-57561010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7FD89-A2EF-472A-99AF-7D4DEB32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29521-957A-425E-90D5-DD2E17A3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E68FE-1CE8-4F2C-8E2B-057BA5D1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86802-8AB0-41D2-AAF9-B28387831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C5CC0-AD99-4213-8353-22AC2CAC2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04BEE-9A96-4A9B-9D78-CD3B050E2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EFE34-D6B6-4220-B2A0-8AEF63D8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6C0E7-4E9D-4F52-ABB5-F74896DD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slideLayout" Target="../slideLayouts/slideLayout85.xml"/><Relationship Id="rId32" Type="http://schemas.openxmlformats.org/officeDocument/2006/relationships/slideLayout" Target="../slideLayouts/slideLayout86.xml"/><Relationship Id="rId33" Type="http://schemas.openxmlformats.org/officeDocument/2006/relationships/slideLayout" Target="../slideLayouts/slideLayout87.xml"/><Relationship Id="rId34" Type="http://schemas.openxmlformats.org/officeDocument/2006/relationships/slideLayout" Target="../slideLayouts/slideLayout88.xml"/><Relationship Id="rId35" Type="http://schemas.openxmlformats.org/officeDocument/2006/relationships/slideLayout" Target="../slideLayouts/slideLayout89.xml"/><Relationship Id="rId36" Type="http://schemas.openxmlformats.org/officeDocument/2006/relationships/slideLayout" Target="../slideLayouts/slideLayout90.xml"/><Relationship Id="rId37" Type="http://schemas.openxmlformats.org/officeDocument/2006/relationships/slideLayout" Target="../slideLayouts/slideLayout91.xml"/><Relationship Id="rId38" Type="http://schemas.openxmlformats.org/officeDocument/2006/relationships/slideLayout" Target="../slideLayouts/slideLayout92.xml"/><Relationship Id="rId39" Type="http://schemas.openxmlformats.org/officeDocument/2006/relationships/slideLayout" Target="../slideLayouts/slideLayout93.xml"/><Relationship Id="rId40" Type="http://schemas.openxmlformats.org/officeDocument/2006/relationships/slideLayout" Target="../slideLayouts/slideLayout94.xml"/><Relationship Id="rId41" Type="http://schemas.openxmlformats.org/officeDocument/2006/relationships/slideLayout" Target="../slideLayouts/slideLayout95.xml"/><Relationship Id="rId4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24D0-6060-4C2D-8DD3-F2ED05DFA9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4D03-A92A-4DFB-826C-EC2D0BCE6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7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808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809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812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C19D-053C-4EF5-B6AC-F221A099BAF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856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859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1" name="PlaceHolder 1"/>
          <p:cNvSpPr>
            <a:spLocks noGrp="1"/>
          </p:cNvSpPr>
          <p:nvPr>
            <p:ph type="dt" idx="3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ftr" idx="3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sldNum" idx="3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282B-4BB1-403E-932F-BF1F3478BBA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1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02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903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17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F0DC-BEC5-4B3D-BD3F-16D99E3CE3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09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09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10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dt" idx="4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B31E-B789-4D80-B3CD-6EA9355EB1F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0C86-E9ED-4E6E-9F33-FAE118FCA1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AD07-3178-4C25-A9A5-15CC9DFDD4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5577-D8F9-4CC3-8BF6-DBB7C3369B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8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8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9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9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0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2E18-4655-45A1-92A1-5F1EFE5D17C7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6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6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6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6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7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7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8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8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3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3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4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4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5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5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6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6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6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6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7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8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2ED1-14AC-409E-B5CC-39758856DBA5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35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39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40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41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42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4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5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58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5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6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78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EAD3-ACC3-4552-ACFC-39AD6D8749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3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3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3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3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3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4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4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5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5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7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AE37-BA5A-481B-B59A-EE73E36DFD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1"/>
    <p:sldLayoutId id="2147483741" r:id="rId32"/>
    <p:sldLayoutId id="2147483742" r:id="rId33"/>
    <p:sldLayoutId id="2147483743" r:id="rId34"/>
    <p:sldLayoutId id="2147483744" r:id="rId35"/>
    <p:sldLayoutId id="2147483745" r:id="rId36"/>
    <p:sldLayoutId id="2147483746" r:id="rId37"/>
    <p:sldLayoutId id="2147483747" r:id="rId38"/>
    <p:sldLayoutId id="2147483748" r:id="rId39"/>
    <p:sldLayoutId id="2147483749" r:id="rId40"/>
    <p:sldLayoutId id="2147483750" r:id="rId41"/>
    <p:sldLayoutId id="2147483751" r:id="rId4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8E94-D6B9-49DE-B04D-55AA7A680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4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Будущее стран ОПЕ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упров Семен 232г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ГПИ 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очему ОПЕК периодически сокращает добычу нефти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ОПЕК сокращает добычу нефти для того, чтобы не допустить падения цен на «чёрное золото» на мировом рынке. Естественно это благоприятный момент для России, хотя она и не состоит в данной организац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1" name="" descr=""/>
          <p:cNvPicPr/>
          <p:nvPr/>
        </p:nvPicPr>
        <p:blipFill>
          <a:blip r:embed="rId1"/>
          <a:stretch/>
        </p:blipFill>
        <p:spPr>
          <a:xfrm>
            <a:off x="1187280" y="3213000"/>
            <a:ext cx="38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312" name="" descr=""/>
          <p:cNvPicPr/>
          <p:nvPr/>
        </p:nvPicPr>
        <p:blipFill>
          <a:blip r:embed="rId2"/>
          <a:stretch/>
        </p:blipFill>
        <p:spPr>
          <a:xfrm>
            <a:off x="5219640" y="3213000"/>
            <a:ext cx="316872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394920" y="-160920"/>
            <a:ext cx="8443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250920" y="189000"/>
            <a:ext cx="858816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аны ОПЕК буквально «кормят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ир нефтью, но, разумеется с выгодой для себ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5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351640" cy="4824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301680" y="-7128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301680" y="259920"/>
            <a:ext cx="854064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Разумеется доля нефти стран экспортёров велик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84872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800" y="16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250920" y="333000"/>
            <a:ext cx="854064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cc00"/>
                </a:solidFill>
                <a:latin typeface="Arial Black"/>
              </a:rPr>
              <a:t>желаю успехов в получении новых знаний!!!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Какое будущее у стран ОПЕК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8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49636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Что такое ОПЕК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e103"/>
                </a:solidFill>
                <a:latin typeface="Arial Black"/>
              </a:rPr>
              <a:t>ОПЕК - ОРГАНИЗАЦИЯ СТРАН-ЭКСПОРТЕРОВ НЕФТИ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(Organization of Petroleum Exporting Countries, OPEC) – международная экономическая организация, объединяющая большинство ведущих стран-экспортеров нефти. Регулирует объем добычи и цену нефти на мировом рынке. Члены ОПЕК контролируют 2/3 мировых запасов нефти.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351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Первоначально в состав организации вошли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Иран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Ирак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Кувейт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Саудовская Аравия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Венесуэла (инициатор создания)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685800" y="6027480"/>
            <a:ext cx="7772400" cy="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240" bIns="21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3" name=""/>
          <p:cNvSpPr/>
          <p:nvPr/>
        </p:nvSpPr>
        <p:spPr>
          <a:xfrm>
            <a:off x="39528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Какие страны входят в ОПЕ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К этим пяти странам, основавшим организацию, позднее присоединились ещё девять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6112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Катар (1961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Индонезия (1962—2008, 1 ноября 2008 г. вышла из состава ОПЕК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Ливия (1962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Объединённые Арабские Эмираты (1967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Алжир (1969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Нигерия (1971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Эквадор (1973—1992, 2007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Габон (1975—1994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Ангола (2007)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6" name=""/>
          <p:cNvSpPr/>
          <p:nvPr/>
        </p:nvSpPr>
        <p:spPr>
          <a:xfrm>
            <a:off x="684360" y="-31608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Какие страны входят в ОПЕ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588520" cy="64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ПЕК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395280" y="4076280"/>
            <a:ext cx="8370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Штаб-квартира ОПЕК первоначально находилась в Женеве, позже перенесена в Вену. Дважды в год (не считая внеочередных событий) проходят конференции ОПЕК, на которых каждую страну представляет министр, отвечающий за добычу нефти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299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4464000" cy="2705040"/>
          </a:xfrm>
          <a:prstGeom prst="rect">
            <a:avLst/>
          </a:prstGeom>
          <a:ln w="0">
            <a:noFill/>
          </a:ln>
        </p:spPr>
      </p:pic>
      <p:pic>
        <p:nvPicPr>
          <p:cNvPr id="1300" name="" descr=""/>
          <p:cNvPicPr/>
          <p:nvPr/>
        </p:nvPicPr>
        <p:blipFill>
          <a:blip r:embed="rId3"/>
          <a:stretch/>
        </p:blipFill>
        <p:spPr>
          <a:xfrm>
            <a:off x="4284720" y="333360"/>
            <a:ext cx="468000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Как долго существует ОПЕК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ганизация была создана в 1960 Ираном, Ираком, Кувейтом, Саудовской Аравией и Венесуэлой для координации их отношений с западными нефтеперерабатывающими компаниями. Как международная экономическая организация ОПЕК зарегистрирован в ООН 6 сентября 196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3" name="" descr=""/>
          <p:cNvPicPr/>
          <p:nvPr/>
        </p:nvPicPr>
        <p:blipFill>
          <a:blip r:embed="rId1"/>
          <a:stretch/>
        </p:blipFill>
        <p:spPr>
          <a:xfrm>
            <a:off x="2556000" y="3789360"/>
            <a:ext cx="496872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Для чего была создана организация ОПЕК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здание ОПЕК было вызвано стремлением стран – экспортеров нефти скоординировать усилия по предотвращению снижения мировых цен на нефт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64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8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0:36:32Z</dcterms:created>
  <dc:creator>User</dc:creator>
  <dc:description/>
  <dc:language>en-US</dc:language>
  <cp:lastModifiedBy>07114</cp:lastModifiedBy>
  <dcterms:modified xsi:type="dcterms:W3CDTF">2009-11-27T07:42:30Z</dcterms:modified>
  <cp:revision>3</cp:revision>
  <dc:subject/>
  <dc:title>Будущее стран ОПЕК</dc:title>
</cp:coreProperties>
</file>